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E54-380B-4DD7-AD0C-D38592D7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691-28DB-4CF7-A5AB-F848CA73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F99-8E22-4C68-9C1D-CFDA1DB8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868-8B04-4B85-8A0D-3CDA9AC4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7A4-CB8B-43C7-B8FC-3819FD4F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638-C589-45AE-AEBC-A2DC49EF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522-2E12-45FD-B587-DB6996AA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0A4-E213-41AB-ADD6-0625E6C1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106-26D7-48E0-9B4C-FA7B6081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C92-2280-414D-93CE-2815B1BF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A02-436C-4959-B094-2C075EA9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715-F319-4315-8DE1-8771587F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D2AF-D08C-414F-89BD-16FE6238A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art 1" descr=""/>
          <p:cNvPicPr/>
          <p:nvPr/>
        </p:nvPicPr>
        <p:blipFill>
          <a:blip r:embed="rId1"/>
          <a:stretch/>
        </p:blipFill>
        <p:spPr>
          <a:xfrm>
            <a:off x="907920" y="1047600"/>
            <a:ext cx="73281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art 2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315280" cy="2981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kevin.yeh\My Documents\2009 Stats\Bill2009081600_HWRFx_3km_wind_swath.gif"/>
          <p:cNvPicPr/>
          <p:nvPr/>
        </p:nvPicPr>
        <p:blipFill>
          <a:blip r:embed="rId2"/>
          <a:stretch/>
        </p:blipFill>
        <p:spPr>
          <a:xfrm>
            <a:off x="457200" y="2971800"/>
            <a:ext cx="4087800" cy="367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kevin.yeh\My Documents\2009 Stats\Bill2009081600_HxGFS_3km_wind_swath.gif"/>
          <p:cNvPicPr/>
          <p:nvPr/>
        </p:nvPicPr>
        <p:blipFill>
          <a:blip r:embed="rId3"/>
          <a:stretch/>
        </p:blipFill>
        <p:spPr>
          <a:xfrm>
            <a:off x="4572000" y="2971800"/>
            <a:ext cx="447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art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315280" cy="298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kevin.yeh\My Documents\2009 Stats\Bill2009081800_HWRFx_3km_wind_swath.gif"/>
          <p:cNvPicPr/>
          <p:nvPr/>
        </p:nvPicPr>
        <p:blipFill>
          <a:blip r:embed="rId2"/>
          <a:stretch/>
        </p:blipFill>
        <p:spPr>
          <a:xfrm>
            <a:off x="457200" y="2971800"/>
            <a:ext cx="406404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kevin.yeh\My Documents\2009 Stats\Bill2009081800_HxGFS_3km_wind_swath.gif"/>
          <p:cNvPicPr/>
          <p:nvPr/>
        </p:nvPicPr>
        <p:blipFill>
          <a:blip r:embed="rId3"/>
          <a:stretch/>
        </p:blipFill>
        <p:spPr>
          <a:xfrm>
            <a:off x="4572000" y="2971800"/>
            <a:ext cx="447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art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315280" cy="2981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kevin.yeh\My Documents\2009 Stats\Erika2009090212_HWRFx_3km_wind_swath.gif"/>
          <p:cNvPicPr/>
          <p:nvPr/>
        </p:nvPicPr>
        <p:blipFill>
          <a:blip r:embed="rId2"/>
          <a:stretch/>
        </p:blipFill>
        <p:spPr>
          <a:xfrm>
            <a:off x="457200" y="2971800"/>
            <a:ext cx="4064040" cy="36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kevin.yeh\My Documents\2009 Stats\Erika2009090212_HxGFS_3km_wind_swath.gif"/>
          <p:cNvPicPr/>
          <p:nvPr/>
        </p:nvPicPr>
        <p:blipFill>
          <a:blip r:embed="rId3"/>
          <a:stretch/>
        </p:blipFill>
        <p:spPr>
          <a:xfrm>
            <a:off x="4572000" y="2971800"/>
            <a:ext cx="447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art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315280" cy="2981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kevin.yeh\My Documents\2009 Stats\Erika2009090312_HWRFx_3km_wind_swath.gif"/>
          <p:cNvPicPr/>
          <p:nvPr/>
        </p:nvPicPr>
        <p:blipFill>
          <a:blip r:embed="rId2"/>
          <a:stretch/>
        </p:blipFill>
        <p:spPr>
          <a:xfrm>
            <a:off x="457200" y="2971800"/>
            <a:ext cx="406404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kevin.yeh\My Documents\2009 Stats\Erika2009090312_HxGFS_3km_wind_swath.gif"/>
          <p:cNvPicPr/>
          <p:nvPr/>
        </p:nvPicPr>
        <p:blipFill>
          <a:blip r:embed="rId3"/>
          <a:stretch/>
        </p:blipFill>
        <p:spPr>
          <a:xfrm>
            <a:off x="4572000" y="2971800"/>
            <a:ext cx="447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9:35:24Z</dcterms:created>
  <dc:creator>Administrator</dc:creator>
  <dc:description/>
  <dc:language>en-US</dc:language>
  <cp:lastModifiedBy>yeh</cp:lastModifiedBy>
  <cp:lastPrinted>2004-10-29T18:41:29Z</cp:lastPrinted>
  <dcterms:modified xsi:type="dcterms:W3CDTF">2009-10-15T02:33:31Z</dcterms:modified>
  <cp:revision>469</cp:revision>
  <dc:subject/>
  <dc:title>HIGH RESOLUTION fvGCM  RESULTS</dc:title>
</cp:coreProperties>
</file>